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25CAC-D0E4-4C87-BB5B-E8E548D01E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11F40-58B1-432E-BD04-44E184478B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B577-9FA1-4C77-8455-A6604C9B8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6222-C9BE-46B5-8812-05FAA7705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742B-36E3-4748-B982-5680456E5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3534-061D-4DCF-8C97-D5C4D83C3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DCDC-E2DC-42B2-889A-0020CFEF3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E84D-2564-425B-A7F0-0428ED0FF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EC89-C6BF-4F70-9F10-0F486E152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B4A1-E1C7-4E01-A0BB-813F97E70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FD78-B77F-4377-9AED-40681C232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975F-616B-46C1-9D2D-75E7953D4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B09C-20DF-4C25-B1D3-8F652444A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840F-880B-4F2D-9FE7-02BED6BB7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50AC0-43F2-4A7A-8F2B-854E3F4D5C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Gabriela Ramire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Gabriela Ramirez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Gabriela Ramirez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Gabriela Ramirez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Gabriela Ramirez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05320"/>
            <a:ext cx="17528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, mi nombre es Gabriela. Yo vivo en Nueva York. Tengo catorce años. Yo tengo seis hermanos. Yo soy calmada y am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4"/>
          <p:cNvSpPr/>
          <p:nvPr/>
        </p:nvSpPr>
        <p:spPr>
          <a:xfrm>
            <a:off x="152280" y="6095880"/>
            <a:ext cx="762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y Lope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6"/>
          <p:cNvSpPr/>
          <p:nvPr/>
        </p:nvSpPr>
        <p:spPr>
          <a:xfrm flipH="1">
            <a:off x="1371600" y="5029200"/>
            <a:ext cx="1828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arle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8" descr="Photo on 2011-10-21 at 13.53 #2.jpg"/>
          <p:cNvPicPr/>
          <p:nvPr/>
        </p:nvPicPr>
        <p:blipFill>
          <a:blip r:embed="rId1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0" descr="Photo on 2011-10-21 at 13.39 #2.jpg"/>
          <p:cNvPicPr/>
          <p:nvPr/>
        </p:nvPicPr>
        <p:blipFill>
          <a:blip r:embed="rId2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4" descr="Photo on 2011-10-21 at 13.53 #2.jpg"/>
          <p:cNvPicPr/>
          <p:nvPr/>
        </p:nvPicPr>
        <p:blipFill>
          <a:blip r:embed="rId3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27"/>
          <p:cNvSpPr/>
          <p:nvPr/>
        </p:nvSpPr>
        <p:spPr>
          <a:xfrm>
            <a:off x="2743200" y="3886200"/>
            <a:ext cx="5715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Buenas tardes amiga, Tienes helado?                                                                                                      Gabb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2819520" y="3276720"/>
            <a:ext cx="518148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Gabriel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os días amiga. Como estas? De donde eres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8" descr="Photo on 2011-10-21 at 13.46.jpg"/>
          <p:cNvPicPr/>
          <p:nvPr/>
        </p:nvPicPr>
        <p:blipFill>
          <a:blip r:embed="rId4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7"/>
          <p:cNvSpPr/>
          <p:nvPr/>
        </p:nvSpPr>
        <p:spPr>
          <a:xfrm>
            <a:off x="2743200" y="2514600"/>
            <a:ext cx="54864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Sharle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, bien gracias, Yo soy de Mexico. Quieres comprar comida conmigo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7"/>
          <p:cNvSpPr/>
          <p:nvPr/>
        </p:nvSpPr>
        <p:spPr>
          <a:xfrm>
            <a:off x="2743200" y="4572000"/>
            <a:ext cx="55627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Buenas noches, nosotras tenemos mucho tarea.                                                                               Sharle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9" descr="Photo on 2011-10-21 at 13.53 #2.jpg"/>
          <p:cNvPicPr/>
          <p:nvPr/>
        </p:nvPicPr>
        <p:blipFill>
          <a:blip r:embed="rId5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27"/>
          <p:cNvSpPr/>
          <p:nvPr/>
        </p:nvSpPr>
        <p:spPr>
          <a:xfrm>
            <a:off x="2666880" y="5181480"/>
            <a:ext cx="54864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2" descr="Photo on 2011-10-21 at 13.46.jpg"/>
          <p:cNvPicPr/>
          <p:nvPr/>
        </p:nvPicPr>
        <p:blipFill>
          <a:blip r:embed="rId6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62"/>
          <p:cNvSpPr/>
          <p:nvPr/>
        </p:nvSpPr>
        <p:spPr>
          <a:xfrm>
            <a:off x="779760" y="5943600"/>
            <a:ext cx="69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bby 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1295280" y="4745160"/>
            <a:ext cx="460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7T14:59:39Z</dcterms:modified>
  <cp:revision>108</cp:revision>
  <dc:subject/>
  <dc:title>Profile</dc:title>
</cp:coreProperties>
</file>